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951-C84D-40CE-B2CF-0864B3EB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C62-0493-4DE2-BDA2-E49B1A81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1B6-6EF6-46D1-8204-FE9ABC93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6C5-4B81-46F0-AA79-8C9FAA5A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FE05-02E1-4C7D-A989-5BB63477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51D7-BFA8-453E-A67C-3D2A518B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E99F-68BB-4636-B685-4E17D1D6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F2B8-8F4C-4378-A15B-56C7B0D8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9DBB-DCB7-4C54-AC15-5D4A7221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B779-E1DD-4AD2-B146-6CDE101D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E5B0-C0DE-4747-8AF9-50E86F71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7B6-AFA1-4B4E-850E-29979313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E8EE-A4F9-4808-B1FA-1A9B9985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2654-7FEE-4B5A-9BC7-4B5CDA0C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03D3-5514-4533-8A94-C915814B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D649-0D41-4651-B9F4-4C941F2B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65B7-5748-4C58-AAE3-19ABA95B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900-EEFC-4D72-9EAB-CBE60F12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098-5A9F-452B-B762-1D5825BA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09F-B760-41D0-BF8D-E07464A3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FE0-C9BA-4739-B3F0-45D3584A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1A4-5A2A-4C1B-BE9B-126A005A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44C-0B19-4021-B3C9-52780824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0A4-2F9D-4C33-BE6C-A65B9881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C81B-FE55-45E7-A0C9-F6698E7AD7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7B59-E3A3-4669-805B-8B42C158C9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fe.uiuc.edu/bio100/lessons/cells_and_organelles.html" TargetMode="External"/><Relationship Id="rId2" Type="http://schemas.openxmlformats.org/officeDocument/2006/relationships/hyperlink" Target="http://kauai.cudenver.edu:3010/0/nutrition.dir/organelle.html" TargetMode="External"/><Relationship Id="rId3" Type="http://schemas.openxmlformats.org/officeDocument/2006/relationships/hyperlink" Target="http://esg-www.mit.edu:8001/esgbio/cb/organelles.html" TargetMode="External"/><Relationship Id="rId4" Type="http://schemas.openxmlformats.org/officeDocument/2006/relationships/hyperlink" Target="http://iip.ucsd.edu/Step/projects95/cellular.Organelles/WHY.HTM" TargetMode="External"/><Relationship Id="rId5" Type="http://schemas.openxmlformats.org/officeDocument/2006/relationships/hyperlink" Target="http://iip.ucsd.edu/Step/projects95/cellular.Organelles/CELLS.HTM" TargetMode="External"/><Relationship Id="rId6" Type="http://schemas.openxmlformats.org/officeDocument/2006/relationships/hyperlink" Target="http://www-class.unl.edu/bios201/group6/cytoskel.html" TargetMode="External"/><Relationship Id="rId7" Type="http://schemas.openxmlformats.org/officeDocument/2006/relationships/hyperlink" Target="http://www.bio.mtu.edu/campbell/eukaryot.htm" TargetMode="External"/><Relationship Id="rId8" Type="http://schemas.openxmlformats.org/officeDocument/2006/relationships/hyperlink" Target="http://www-class.unl.edu/bios201/group6/nucleus.html" TargetMode="External"/><Relationship Id="rId9" Type="http://schemas.openxmlformats.org/officeDocument/2006/relationships/hyperlink" Target="http://www-class.unl.edu/bios201/group6/lyso.html" TargetMode="External"/><Relationship Id="rId10" Type="http://schemas.openxmlformats.org/officeDocument/2006/relationships/hyperlink" Target="http://www-class.unl.edu/bios201/group6/er.html" TargetMode="External"/><Relationship Id="rId11" Type="http://schemas.openxmlformats.org/officeDocument/2006/relationships/hyperlink" Target="http://lenti.med.umn.edu/%7Emwd/back/cell_www/chapter2/ER.html" TargetMode="External"/><Relationship Id="rId12" Type="http://schemas.openxmlformats.org/officeDocument/2006/relationships/hyperlink" Target="http://www-class.unl.edu/bios201/group6/golgi.html" TargetMode="External"/><Relationship Id="rId13" Type="http://schemas.openxmlformats.org/officeDocument/2006/relationships/hyperlink" Target="http://www-class.unl.edu/bios201/group6/centrio.html" TargetMode="Externa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Comic Sans MS"/>
              </a:rPr>
              <a:t>The World of C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6389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oln Rob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Sample - EDU 2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. The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27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rythrocyte (red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ukocyte (white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mbocyte (platelet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blood cells are created in bon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s divide in th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ite 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Leucocy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utrophils 40 - 7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ymphocytes 20 - 5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osinophils 5 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ocytes 1 - 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ophils 0.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581280" cy="258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410080" y="4572000"/>
            <a:ext cx="26672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Make up a large part of the immune defens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ct in response to antigenic stimul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re found in the bloodstream, lymphatic tissues and organs of the lymphatic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Consist of B and T cells, NK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cells initiate Humoral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nthesize and secrete antibo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ill off 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 cells initiate Cell-mediated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rete cytok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lytic T cells automatically kill infecte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4616640" cy="2678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7524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ural Kill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ck antigen rece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gulate the production of bloo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ll B cell lymphocytes have a specific receptor for specific antige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CR is the unique protein that helps activate B cells, creates the specific binding sites, and allows B cells to recognize other lymphocyt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Helps neutralize the microb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ctivates phagocy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Macrophages are antigen presenting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ent antigens to B and T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Two main types of B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emory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ormed from activated B ce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onger life, ready to respond to repeated exposure to a particular antig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lasma cel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arger B cells that secrete large amounts of antibod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ntibodies bind to microbes making them easier for phagocytes to attac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B cells can encounter the antigen when it is soluble (lymph or blood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Naive B cells are throughout the body at al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Secreting low levels of anti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ed by 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Many antigens are T-depe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Require the combination of B and T cells for “co-stimul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ion of the highest level of antibody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9200" y="5638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cal game-plan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initially testing shows three large tumors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Each tumor is located within the lymphatic system, specifically on the lymph no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the blood work showed a decrease in the level of white blood cells, which is usual. The tests showed that the patients platelet level is way dow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recommend an immediate platelet transfusion, and to keep a close watch on the status of white bloo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These initial results are leading me to believe you will require stem cell transplant from a matching donor after you undergo radiation and chemotherapy to control the growth of present tum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am going to create an official report and have all this report reviewed by our medical staff for second opinions. I will also make sure all Doctor’s have received a copy of  the results from your blood work and CAT sc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Referenc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cker, Kleinsmith, Harden. (2000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 world of the cel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New York: Addison Wesley Longman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: The river of life. 2001 July. Retrieved April 30, 2007 from the world wide web: http://library.thinkquest.org/C0115080/?c=w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_cyc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Cell Theory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"/>
              </a:rPr>
              <a:t>In 1824, Rene Dutrochet discovered that "the cell is the fundamental element in the structure of living bodies, forming both animals and plants through juxtaposition.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all known living things are made up of ce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the cell is structural &amp; functional unit of all living thing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all cells come from pre-existing cells by division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 (Spontaneous Generation does not occur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cells contains hereditary information which is passed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cell to cell during cell divis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. All cells are basically the same in chemical composit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. all energy flow (metabolism &amp; biochemistry) of life occur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within cell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ELL IS THE BASIC UNIT OF LIFE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cell_cycl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Prokaryotes vs. Eukaryo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91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nuclear membrane (genetic material dispersed throughout cytoplas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ple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primitive type of cell (appeared about four billion years ag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719360"/>
            <a:ext cx="4267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u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 surrounding genetic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merous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eared approximately one billion years 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248520" y="4952880"/>
            <a:ext cx="2011320" cy="167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90920" y="4994280"/>
            <a:ext cx="1752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Intracellular Organell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rrounds nucle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two lay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Numerous openings for nuclear traff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ol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pherical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Visible when cell is not divi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RNA for protein manufactur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rom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Usually in the form of chromat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genetic inform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D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Thicken for cellular di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t number per spe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.e. 23 pairs for human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1276560" cy="127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2920" y="5105520"/>
            <a:ext cx="1276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ysoso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igestive 'plant' for proteins, lipids, and carbohyd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ransports undigested material to cell membrane for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Vary in shape depending on process being carried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ell breaks down if lysosome explodes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loroplast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lastid usual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 green chlorophyll where photosynthesis takes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cuo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embrane-bound sacs for storage, digestion, and waste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water solu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actile vacuoles for water removal (in unicellular organis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201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477120" y="4876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mooth and Rough Endoplasmic Reticulu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ubular network fused to nuclear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Goes through cytoplasm onto cell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ores, separates, and serves as cell's transport syste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mooth type: lacks ribos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ough type (pictured): ribosomes embedded in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b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ach cell contains thousan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iniature 'protein factories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s 25% of cell's ma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ationary type: embedded in rough endoplasmic reticulu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bile type: injects proteins directly into cytoplasm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skelet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microtubu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pports cell and provides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Aids movement of materials in and out of cel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9920" y="1695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67600" y="5124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467480" y="3200400"/>
            <a:ext cx="12765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05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tochondri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econd largest organelle with unique genetic structu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Double-layered outer membrane with inner folds called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nergy-producing chemical reactions take place on 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level of water and other materials in ce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ecycles and decomposes proteins, fats, and carbohydrates, and forms 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ntrioles (animal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ired cylindrical organelles near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nine tubes, each with three tub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Involved in cellular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Lie at right angles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9436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 Surf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Wall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st common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turg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xtracellular structure surrounding plasma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imary cell wall: extremely elast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condary cell wall: forms around primary cell wall after growth is comp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Outer membrane of cell that controls cellular traff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proteins (left, gray) that span through the membrane and allow passage of materia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oteins are surrounded by a phospholipid bi-lay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 to other resour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nd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life.uiuc.edu/bio100/lessons/cells_and_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sides of Cell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kauai.cudenver.edu:3010/0/nutrition.dir/organelle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ures and Function of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esg-www.mit.edu:8001/esgbio/cb/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There Organelles?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iip.ucsd.edu/Step/projects95/cellular.Organelles/WHY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ar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://iip.ucsd.edu/Step/projects95/cellular.Organelles/CELLS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filaments and Microtubules--The Cytoskeleton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http://www-class.unl.edu/bios201/group6/cytoskel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karyotic Cell Membrane or Plasma Membrane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http://www.bio.mtu.edu/campbell/eukaryot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ucleus, Nucleolus, Nuclear Envelope, and everything you ever wanted to know about DNA (but were afraid to ask)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http://www-class.unl.edu/bios201/group6/nucleu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sosom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http://www-class.unl.edu/bios201/group6/lys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ough and Smooth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http://www-class.unl.edu/bios201/group6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http://lenti.med.umn.edu/~mwd/back/cell_www/chapter2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olgi Bodi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http://www-class.unl.edu/bios201/group6/golgi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http://www-class.unl.edu/bios201/group6/centri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class.unl.edu/bios201/group6/mitocho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28:08Z</dcterms:created>
  <dc:creator>Lincoln</dc:creator>
  <dc:description/>
  <dc:language>en-US</dc:language>
  <cp:lastModifiedBy>Lincoln</cp:lastModifiedBy>
  <dcterms:modified xsi:type="dcterms:W3CDTF">2008-03-31T16:28:15Z</dcterms:modified>
  <cp:revision>57</cp:revision>
  <dc:subject/>
  <dc:title>The World of Cells</dc:title>
</cp:coreProperties>
</file>